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3547-2313-4E06-B4A3-093E1E5124E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thank you for this opportunity to meet with you today and allowing Group A Designs, Inc. to show you how we can partner with you to deliver a formal training program for your volunteers, that meets your needs and expectations .  We believe, and know that you will also agree, that the fundamentally strong instructional design processes we are about to show you, will not only bring consistency in how job tasks are performed by your volunteers; but will also bring about an elevated level of customer satisfaction in the services provided by your volunteers.  </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D737-D359-42DD-8034-CF9521182EB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you can see our design process incorporates the fundamental requirements for a successful learning outcome.  We started by ensuring that the learning goals and objectives established for the instructional session focused on the “must-have” learning outcomes you identified when we first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by keeping our design process centered around these goals and objectives, we never lost sight of your expectations of the curriculum.  Because this is our design focus, we believe, we came up with a plan for the art museum that can’t be beat; as our design incorporates an Instructional Strategy, Assessments and an Evaluation Plan that are all centered around these goals and objectives.  This gives you, a harmonious instructional approach towards meeting the expected learning outcomes for your volunteer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t </a:t>
            </a:r>
            <a:r>
              <a:rPr b="0" lang="en-US" sz="1200" spc="-1" strike="noStrike" u="sng">
                <a:solidFill>
                  <a:srgbClr val="000000"/>
                </a:solidFill>
                <a:uFillTx/>
                <a:latin typeface="Calibri"/>
              </a:rPr>
              <a:t>Group A Designs, Inc</a:t>
            </a:r>
            <a:r>
              <a:rPr b="0" lang="en-US" sz="1200" spc="-1" strike="noStrike">
                <a:solidFill>
                  <a:srgbClr val="000000"/>
                </a:solidFill>
                <a:latin typeface="Calibri"/>
              </a:rPr>
              <a:t>. are excited about the opportunity to work with you and your team on this project, and we are ready to get started toda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4A11-5D27-4B5D-8965-E63DAA0E94A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97F18-F690-4394-9386-E2E051709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4550-922C-4E06-9BF0-FCC2706D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C8C3216-A6C2-4BC9-A5D8-403A96A55D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A68CE79-B554-47C4-973B-FAFE40513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7ADB4FC-5D47-4086-97C8-FD4E78329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794EA32-8FA1-4C75-B937-11FD37C93A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E34B8FB-9757-494C-A6F8-DABF0F582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DFA4899-742F-41F8-B38E-65195E63BC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C5F6A47-EA42-4D4E-9982-9007885B9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448E7E8-9253-432D-A828-DF0B29DAE6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7E19688-C113-405E-B8F7-07E9ABA658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7A8EFE3-2239-4D6B-8F79-84853C77CD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A5CC-4C29-46D9-849D-426643A64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83F42B2-57CC-4CFA-AB7A-2FA2C064B0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A86F4C9-9DC5-4649-BB1D-7DAA19F678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5B18341-020D-40F2-8366-FF3710D20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344E09E-B0AA-48D5-807B-36AC68096E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26DE716-32D5-4776-A7E8-683BF09F26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F36B639-A9D0-44E3-8B71-C6378BE130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6B7D33D-2DC2-49B5-9E7F-767C1746BF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7B4A9AE-78CE-4A85-8ACF-333873C7B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647A392-7BE3-4007-BBA7-F80FB5E936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72DA5C0-49C9-48D4-8675-9B46381FDC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04FFB-742F-478B-9811-1B3A238D4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7D7754B-E3AD-4667-84C7-0089919C50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3EA9EB-7908-4BC1-BF02-3F4749C0A6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5CECF2-5A58-41C9-950F-0E5BC6B30B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A0FD49-924D-45F1-BFA3-A194421CDB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1E2872-47FF-4642-9F61-2D9BC2F74A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03C43D-3121-4287-AFBE-179DFE5FD0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D36444-C564-4277-83AB-6C2EBF3E49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30B955-F4FA-48E3-829E-A530429CBD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B0995-9CC6-4FE0-8251-37F3853374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FEB955-E4B1-4A84-83D1-209F4DEA02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E89C42-E891-42DA-86E3-276F36201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BCC3D6-ABE7-4D9D-B25E-905CFEABD9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A13DC3-22BD-4479-85B9-C742619B5A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B95551-19D7-4E30-B14A-6910775BAE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BCE6AC-A4D7-4064-9355-86E161DC1F0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3EC43A-AA87-4B95-8768-A4851E1F47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2D109F-546C-40E3-838A-56C8146304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0219A0-4AB5-4174-8C49-B751E1BE4A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F9A6EF-FA3C-4D57-B717-E45861E916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D6593C-B712-4248-8C75-F3FD8B2758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5DFBB7-E001-445B-8A37-AEC9F88C3F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FA50C5-57D4-4FE4-A589-6D22A4426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4ED617-A004-4B71-B0B1-CDAB4D502C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B3943-B635-4DCD-B444-3FB7B378AB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3A3C60-D2B6-4E66-9087-254DB38277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80EA02-E06B-4CFD-8595-4C3703861A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C229B6-313F-4E22-8AAB-C56C6A4B6F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EA3E02-FCB8-446E-BFD6-C889544BD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BCD0A0-FE8B-4E52-ABF1-D2F21DF6D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34E024-1D2A-4C0D-83F5-A615A1E6E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F48245-D6BC-46BB-A0E6-1422A8424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C89FAF-D293-4625-B8AA-1CA612949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B53F-74F0-44EC-B9CC-8D4CA64C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782014-C557-4CDD-AE38-769941D78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C437CC-97ED-42DC-8FBD-231642210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2F958E-561C-40F8-9707-C713A87F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DEAF79-75FD-43D0-957C-A0B2DA5DE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789EF8E-C84E-4D35-A32E-A28F60D75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373C86-0158-4E46-8404-36C16F131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0BC373-9C00-42AE-B869-E6D3B235B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47F8AE-3604-4B2A-BA1B-E9694B22C8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7C2985-A92E-48B9-A804-CA603824A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525D4D-1D94-42BB-8A6C-0F59FDB90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A636-3006-446A-96B4-87AF2FFC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824CEC-7DB2-4C70-A0A8-737CC4890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E58BC8-D07B-43FD-9834-EC54B244E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F6FA0-28E6-4C94-B2AB-C2366D37D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196434-736B-4588-AC68-0199FC0AE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AC1A85-788E-4B13-9FD3-ECFE53FC2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0838CB-D988-4475-92D7-997B9B356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5B82045-3459-48AC-BCD3-EE8CA0E8A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9904D0C-DB69-4951-931D-E9CE1B577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526615-9B6A-43E8-B367-12C7F6ED6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B21CA7-AD02-402C-8D17-DB9EAD454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E9D6-DE0F-4022-A127-FA50422AE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076C35-AEF1-4F24-A8F3-B66668EFF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DD0027-A240-4A90-83F7-165623AF2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D55430-5C58-45C7-87FA-A5F072838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3F94B3-525A-4949-97BE-A42DEC3E7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086DF3-76D8-4BB8-A91B-673658A55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488EC5-60FB-430E-BFC2-3E4E66E28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A59803-D435-4499-B2E4-EF3A43393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07BCBA0-A211-469E-B5D4-0C89410833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284B32-37B8-427C-BC77-D95EFE889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0EFD8D-79E7-4962-BE8F-279E7D3D64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574E-BE16-4F85-AEE5-CE5FD84E7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DF9997-9E35-49A0-96AB-6BB646E4E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68ED5E-A2B8-4DBC-A6FF-B696E65D7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B773AC-AC0B-4295-A7F9-2A358D776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82217E-3978-48E2-BB77-CA50FD98F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97B8A1-8C29-4725-919F-9BE81926B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75676E-8BBE-4C07-B71B-555D81842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725CA9-2DBF-425C-A70A-B501CABA1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94555E-C3EA-427A-ACBE-7CDBDDE03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7988C7-F805-44D2-BB2B-861A32B08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6A180A-60C7-444E-8BDB-CEF0EEBA4C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37ED-44CB-47AF-8C41-EAE5E6637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5B77191-BF2D-4B06-B54E-7B1FC37EA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884FEFC-AED6-470F-8C7F-476AD6CE8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9CF1EB7-4CA2-4EC9-95DF-0733D301D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9793B62-8C3C-4756-A988-672AE6900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504C5DC-B3B2-44A4-AAEE-F838AF38F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6A311D2-94D4-4615-BA91-A1AC8B2621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649DCB2-8234-4AC6-B742-FA1C6FAFB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3721C6-A358-4689-A941-6F8A3CCF1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1E1367-C46A-4791-A355-DCAA99EA0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3470F4-986B-488A-80E6-A97042294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754F-C4C9-4F8F-AD5F-EC4B871F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7CF501-146D-4247-AB66-C0C194892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EEF186-5D8C-4E37-9090-43DFFB2F3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4FCFC41-ECBE-41D5-AD6E-DFDBEA5FA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8F6348-0905-4EDF-A47E-D760C7F1B0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3891B5D-A2BD-4F5D-8DA0-F01E653F4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B43C83-76D6-4891-B0A4-07EDA048E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A4262B-78E0-4F32-B65A-DCEEE8A70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DA2F15-59E6-41F6-9A38-78E4955195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B248AC-2D4B-4FB5-A8AF-C74A165EB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757DAC-2E04-4495-BAE7-774DB66C8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C3BF-2070-4E8C-AC32-A8D93F8EC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BCD175-EE2D-4BE8-B26D-771BB7126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92A6AC-559A-4D78-968E-A743FD062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B0974C0-5338-462E-8965-6959CEACF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E49383-08CF-4CDC-ACA1-19B4FF1D3E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1FAC167-C15F-4F76-8FA2-816094865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459C97E-06CD-4D48-AC29-D4FEF343A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856E725-26BE-4A3A-BB46-DE7AB8B818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AF75ED7-0313-41D2-98EC-BB72A36C4F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C8890B2-BA98-4AD4-A373-97C7708920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182EC7F-122E-4064-96C1-DFC631013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F64B-E676-407F-BA40-1246461E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0D670B6-4E47-4339-8E35-45AEE0FB5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A104C0C-7E9D-4025-9225-9B33CFCA99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DE24A56-9DBE-4C7E-9265-C18A85BB6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3CCCD78-985E-4372-B6E7-1F2A585A4A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5D1CEC6-7489-4F3A-8BEA-EB687E8C5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99EA481-E5C4-4373-AC73-2EE2B734A7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AA6A796-9389-48C4-94A4-BCB3D627E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117A481-B41F-49F3-880F-0767F66A84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4610FF0-3FDB-4DCA-AEA4-6EE9FFF5D5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F064D1B-22E3-4F5E-907B-12060F9250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E643-924C-4367-AA3C-F7676A4D6D8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482B-D936-4BFB-87FB-4244E8A5AD8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466E-77A6-4530-B44A-01F7FBC525E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4F9B-CB58-4BDE-B574-5ACD194DF73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5A49-5271-448A-8E5B-545100B50F1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1DDE-2528-472B-9836-12C51D4D267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FDED-B577-41C4-B175-C9EB10FF3BC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BC8D-EAED-48DB-8E36-08FCB906B82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59D8-FB32-4F77-B29B-9D30BE0BF42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2F5A-6486-4ADA-8D0F-ED912123F8C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ABE6-2F88-4815-A03B-D6B6CE1749D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343080" indent="-34308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343080" indent="-34308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FBC5-C98E-47BC-9EA1-AD5EF879B05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191880" y="111240"/>
            <a:ext cx="272124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Introduction</a:t>
            </a:r>
            <a:endParaRPr b="0" lang="en-US" sz="3400" spc="-1" strike="noStrike">
              <a:solidFill>
                <a:srgbClr val="ffffff"/>
              </a:solidFill>
              <a:latin typeface="Corbel"/>
            </a:endParaRPr>
          </a:p>
        </p:txBody>
      </p:sp>
      <p:sp>
        <p:nvSpPr>
          <p:cNvPr id="518" name="TextBox 3"/>
          <p:cNvSpPr/>
          <p:nvPr/>
        </p:nvSpPr>
        <p:spPr>
          <a:xfrm>
            <a:off x="380880" y="1066680"/>
            <a:ext cx="8383680" cy="493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Your Needs:</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 formal training program designed to train your volunteers i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Leading tours of exhibit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Staffing the museum “information station” to answer visitors’ question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t>
            </a:r>
            <a:r>
              <a:rPr b="0" lang="en-US" sz="1600" spc="-1" strike="noStrike">
                <a:solidFill>
                  <a:srgbClr val="1b24cf"/>
                </a:solidFill>
                <a:latin typeface="Verdana"/>
              </a:rPr>
              <a:t>	</a:t>
            </a:r>
            <a:r>
              <a:rPr b="0" lang="en-US" sz="1600" spc="-1" strike="noStrike">
                <a:solidFill>
                  <a:srgbClr val="1b24cf"/>
                </a:solidFill>
                <a:latin typeface="Verdana"/>
              </a:rPr>
              <a:t>Maintaining an Excel database of patron informatio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t>
            </a:r>
            <a:r>
              <a:rPr b="0" lang="en-US" sz="1600" spc="-1" strike="noStrike">
                <a:solidFill>
                  <a:srgbClr val="1b24cf"/>
                </a:solidFill>
                <a:latin typeface="Verdana"/>
              </a:rPr>
              <a:t>	</a:t>
            </a:r>
            <a:r>
              <a:rPr b="0" lang="en-US" sz="1600" spc="-1" strike="noStrike">
                <a:solidFill>
                  <a:srgbClr val="1b24cf"/>
                </a:solidFill>
                <a:latin typeface="Verdana"/>
              </a:rPr>
              <a:t>Calling and e-mailing patrons to raise fund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Our Strategic Plan</a:t>
            </a:r>
            <a:r>
              <a:rPr b="0" lang="en-US" sz="1600" spc="-1" strike="noStrike">
                <a:solidFill>
                  <a:srgbClr val="1b24cf"/>
                </a:solidFill>
                <a:latin typeface="Verdana"/>
              </a:rPr>
              <a:t>:</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A partnership with you that produces a learning program designed with you in mind, and meets expectations of the art museum by incorporating the fundamentals of instructional design:</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Goals and Objective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Instructional Strategies and Activitie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Assessments</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4cf"/>
                </a:solidFill>
                <a:latin typeface="Verdana"/>
              </a:rPr>
              <a:t>•  </a:t>
            </a:r>
            <a:r>
              <a:rPr b="0" lang="en-US" sz="1600" spc="-1" strike="noStrike">
                <a:solidFill>
                  <a:srgbClr val="1b24cf"/>
                </a:solidFill>
                <a:latin typeface="Verdana"/>
              </a:rPr>
              <a:t>Program Evaluation</a:t>
            </a:r>
            <a:endParaRPr b="0" lang="en-US" sz="1600" spc="-1" strike="noStrike">
              <a:solidFill>
                <a:srgbClr val="ffffff"/>
              </a:solidFill>
              <a:latin typeface="Corbel"/>
            </a:endParaRPr>
          </a:p>
        </p:txBody>
      </p:sp>
      <p:pic>
        <p:nvPicPr>
          <p:cNvPr id="519" name="Picture 2" descr="C:\Users\Owner\AppData\Local\Microsoft\Windows\Temporary Internet Files\Content.IE5\KTN0WX26\MC900432674[1].png">
            <a:hlinkClick r:id="" action="ppaction://hlinkshowjump?jump=nextslide"/>
          </p:cNvPr>
          <p:cNvPicPr/>
          <p:nvPr/>
        </p:nvPicPr>
        <p:blipFill>
          <a:blip r:embed="rId1"/>
          <a:stretch/>
        </p:blipFill>
        <p:spPr>
          <a:xfrm>
            <a:off x="8385120" y="6186600"/>
            <a:ext cx="75888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3"/>
          <p:cNvSpPr/>
          <p:nvPr/>
        </p:nvSpPr>
        <p:spPr>
          <a:xfrm>
            <a:off x="435600" y="111240"/>
            <a:ext cx="25275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Conclusion:</a:t>
            </a:r>
            <a:endParaRPr b="0" lang="en-US" sz="3400" spc="-1" strike="noStrike">
              <a:solidFill>
                <a:srgbClr val="ffffff"/>
              </a:solidFill>
              <a:latin typeface="Corbel"/>
            </a:endParaRPr>
          </a:p>
        </p:txBody>
      </p:sp>
      <p:sp>
        <p:nvSpPr>
          <p:cNvPr id="521" name="TextBox 4"/>
          <p:cNvSpPr/>
          <p:nvPr/>
        </p:nvSpPr>
        <p:spPr>
          <a:xfrm>
            <a:off x="380880" y="1066680"/>
            <a:ext cx="837720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Our focus is Your Needs and Your Expectations</a:t>
            </a:r>
            <a:r>
              <a:rPr b="0" lang="en-US" sz="1800" spc="-1" strike="noStrike">
                <a:solidFill>
                  <a:srgbClr val="1b24cf"/>
                </a:solidFill>
                <a:latin typeface="Verdana"/>
              </a:rPr>
              <a:t>:</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rPr>
              <a:t>Our foundation:  </a:t>
            </a:r>
            <a:r>
              <a:rPr b="1" lang="en-US" sz="1800" spc="-1" strike="noStrike">
                <a:solidFill>
                  <a:srgbClr val="1b24cf"/>
                </a:solidFill>
                <a:latin typeface="Verdana"/>
              </a:rPr>
              <a:t>Goals &amp; Objectives</a:t>
            </a:r>
            <a:r>
              <a:rPr b="0" lang="en-US" sz="1800" spc="-1" strike="noStrike">
                <a:solidFill>
                  <a:srgbClr val="1b24cf"/>
                </a:solidFill>
                <a:latin typeface="Verdana"/>
              </a:rPr>
              <a:t> clearly define what performance volunteers  must and will possess upon completion of the proposed instructional program. </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Instructional strategy</a:t>
            </a:r>
            <a:r>
              <a:rPr b="0" lang="en-US" sz="1800" spc="-1" strike="noStrike">
                <a:solidFill>
                  <a:srgbClr val="1b24cf"/>
                </a:solidFill>
                <a:latin typeface="Verdana"/>
              </a:rPr>
              <a:t> provides a variety of tools, activities, and resources that gives volunteers a supportive learning environment that encourages a successful learning outcome.</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Assessments</a:t>
            </a:r>
            <a:r>
              <a:rPr b="0" lang="en-US" sz="1800" spc="-1" strike="noStrike">
                <a:solidFill>
                  <a:srgbClr val="1b24cf"/>
                </a:solidFill>
                <a:latin typeface="Verdana"/>
              </a:rPr>
              <a:t> designed and incorporated into the curriculum to ensure volunteers can apply what they learned upon completion of the instructional program.</a:t>
            </a: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Verdana"/>
              </a:rPr>
              <a:t>Program Evaluation</a:t>
            </a:r>
            <a:r>
              <a:rPr b="0" lang="en-US" sz="1800" spc="-1" strike="noStrike">
                <a:solidFill>
                  <a:srgbClr val="1b24cf"/>
                </a:solidFill>
                <a:latin typeface="Verdana"/>
              </a:rPr>
              <a:t> plan established to measure the overall success of the instructional program and instill ongoing performance management.</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 Partnership Designed for Learning Success</a:t>
            </a:r>
            <a:endParaRPr b="0" lang="en-US" sz="2000" spc="-1" strike="noStrike">
              <a:solidFill>
                <a:srgbClr val="ffffff"/>
              </a:solidFill>
              <a:latin typeface="Corbel"/>
            </a:endParaRPr>
          </a:p>
        </p:txBody>
      </p:sp>
      <p:pic>
        <p:nvPicPr>
          <p:cNvPr id="522" name="Picture 2" descr="C:\Users\Owner\AppData\Local\Microsoft\Windows\Temporary Internet Files\Content.IE5\BK0RA2J1\MC900441509[1].png">
            <a:hlinkClick r:id="" action="ppaction://hlinkshowjump?jump=endshow"/>
          </p:cNvPr>
          <p:cNvPicPr/>
          <p:nvPr/>
        </p:nvPicPr>
        <p:blipFill>
          <a:blip r:embed="rId1"/>
          <a:stretch/>
        </p:blipFill>
        <p:spPr>
          <a:xfrm>
            <a:off x="8545680" y="6276960"/>
            <a:ext cx="582480" cy="58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9T06:02:52Z</dcterms:created>
  <dc:creator>Ann M Gall</dc:creator>
  <dc:description/>
  <dc:language>en-US</dc:language>
  <cp:lastModifiedBy>Ann M Gall</cp:lastModifiedBy>
  <dcterms:modified xsi:type="dcterms:W3CDTF">2011-07-09T06:04:34Z</dcterms:modified>
  <cp:revision>1</cp:revision>
  <dc:subject/>
  <dc:title>PowerPoint Presentation</dc:title>
</cp:coreProperties>
</file>